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CEE-18EE-4E39-B239-59DB4650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F48-82C2-4ACC-9F09-ABB39F92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B3F-FE5E-4C10-A838-31239874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BB9-CF93-43AA-9526-9BE33FA3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E58-E643-4414-B44B-57D671C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DB1-321A-4261-97A4-1CECF909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791-BF51-4EF6-AA40-1F777B75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8A8-7BF8-4920-B02F-B833D8B4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811-F128-4902-AACF-9BFF68FF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B0C-6B03-4506-B0E7-806E3AFF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694-78BA-4608-9582-D4CD7D5E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77F-59F3-4C0C-873C-F292E251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4C34-E764-41C2-B9CD-566E32344B26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5" descr=""/>
          <p:cNvPicPr/>
          <p:nvPr/>
        </p:nvPicPr>
        <p:blipFill>
          <a:blip r:embed="rId1"/>
          <a:stretch/>
        </p:blipFill>
        <p:spPr>
          <a:xfrm>
            <a:off x="1328760" y="669960"/>
            <a:ext cx="4718160" cy="2317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6286680" y="3573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468360" y="335772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in your spelling words. Get a buddy to check if they  are typed correc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the Week number and Term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do not have to do every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3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14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457200" y="1600200"/>
          <a:ext cx="5338800" cy="4971960"/>
        </p:xfrm>
        <a:graphic>
          <a:graphicData uri="http://schemas.openxmlformats.org/drawingml/2006/table">
            <a:tbl>
              <a:tblPr/>
              <a:tblGrid>
                <a:gridCol w="533520"/>
                <a:gridCol w="534960"/>
                <a:gridCol w="533160"/>
                <a:gridCol w="533520"/>
                <a:gridCol w="533520"/>
                <a:gridCol w="534960"/>
                <a:gridCol w="533160"/>
                <a:gridCol w="533520"/>
                <a:gridCol w="534960"/>
                <a:gridCol w="533520"/>
              </a:tblGrid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144360" y="26028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144360" y="75564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6227640" y="1773360"/>
            <a:ext cx="2448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1311120" y="281160"/>
            <a:ext cx="82346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324000" y="1600200"/>
          <a:ext cx="8351640" cy="5043600"/>
        </p:xfrm>
        <a:graphic>
          <a:graphicData uri="http://schemas.openxmlformats.org/drawingml/2006/table">
            <a:tbl>
              <a:tblPr/>
              <a:tblGrid>
                <a:gridCol w="2784240"/>
                <a:gridCol w="2784600"/>
                <a:gridCol w="2782800"/>
              </a:tblGrid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5"/>
          <p:cNvSpPr/>
          <p:nvPr/>
        </p:nvSpPr>
        <p:spPr>
          <a:xfrm>
            <a:off x="144360" y="26028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44360" y="75564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1652760" y="0"/>
            <a:ext cx="7167240" cy="16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79280" y="1600200"/>
          <a:ext cx="8640720" cy="504360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158920"/>
                <a:gridCol w="2160360"/>
              </a:tblGrid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5"/>
          <p:cNvSpPr/>
          <p:nvPr/>
        </p:nvSpPr>
        <p:spPr>
          <a:xfrm>
            <a:off x="144360" y="26028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44360" y="75564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e 5" descr=""/>
          <p:cNvPicPr/>
          <p:nvPr/>
        </p:nvPicPr>
        <p:blipFill>
          <a:blip r:embed="rId1"/>
          <a:stretch/>
        </p:blipFill>
        <p:spPr>
          <a:xfrm>
            <a:off x="1689120" y="-12600"/>
            <a:ext cx="7454880" cy="70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14200" y="1025640"/>
          <a:ext cx="8715600" cy="5643360"/>
        </p:xfrm>
        <a:graphic>
          <a:graphicData uri="http://schemas.openxmlformats.org/drawingml/2006/table">
            <a:tbl>
              <a:tblPr/>
              <a:tblGrid>
                <a:gridCol w="1500480"/>
                <a:gridCol w="7215120"/>
              </a:tblGrid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3"/>
          <p:cNvSpPr/>
          <p:nvPr/>
        </p:nvSpPr>
        <p:spPr>
          <a:xfrm>
            <a:off x="144360" y="11592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44360" y="61128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5" descr=""/>
          <p:cNvPicPr/>
          <p:nvPr/>
        </p:nvPicPr>
        <p:blipFill>
          <a:blip r:embed="rId1"/>
          <a:stretch/>
        </p:blipFill>
        <p:spPr>
          <a:xfrm>
            <a:off x="281160" y="-73080"/>
            <a:ext cx="8862840" cy="8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14200" y="1025640"/>
          <a:ext cx="8715600" cy="5643360"/>
        </p:xfrm>
        <a:graphic>
          <a:graphicData uri="http://schemas.openxmlformats.org/drawingml/2006/table">
            <a:tbl>
              <a:tblPr/>
              <a:tblGrid>
                <a:gridCol w="1500480"/>
                <a:gridCol w="7215120"/>
              </a:tblGrid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6480" rIns="18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6480" marR="18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144360" y="11592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611280"/>
            <a:ext cx="147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1792440" y="-103320"/>
            <a:ext cx="22795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250920" y="1285920"/>
          <a:ext cx="8750160" cy="4857840"/>
        </p:xfrm>
        <a:graphic>
          <a:graphicData uri="http://schemas.openxmlformats.org/drawingml/2006/table">
            <a:tbl>
              <a:tblPr/>
              <a:tblGrid>
                <a:gridCol w="1458720"/>
                <a:gridCol w="1457280"/>
                <a:gridCol w="1459080"/>
                <a:gridCol w="1458720"/>
                <a:gridCol w="1457640"/>
                <a:gridCol w="1458720"/>
              </a:tblGrid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ounded Rectangle 6"/>
          <p:cNvSpPr/>
          <p:nvPr/>
        </p:nvSpPr>
        <p:spPr>
          <a:xfrm>
            <a:off x="4572000" y="260280"/>
            <a:ext cx="42750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How many syllables are in each word. Type the word into the correct colum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08000" y="260280"/>
            <a:ext cx="1474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108000" y="755640"/>
            <a:ext cx="1474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3:52:30Z</dcterms:created>
  <dc:creator>Jacqui</dc:creator>
  <dc:description/>
  <dc:language>en-US</dc:language>
  <cp:lastModifiedBy>Jacqui Sharp</cp:lastModifiedBy>
  <dcterms:modified xsi:type="dcterms:W3CDTF">2011-04-28T21:36:02Z</dcterms:modified>
  <cp:revision>24</cp:revision>
  <dc:subject/>
  <dc:title>Slide 1</dc:title>
</cp:coreProperties>
</file>